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0913-76D9-40EE-8995-29D81394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6AA-149A-4931-9ED3-349D8274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907-AE74-42E5-80F8-14F71446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4ED-A289-4CE9-891E-5F371CB7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C77-F1CC-4CB3-A8A8-136894FA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F359-4A6F-4C6D-AE83-522F7B7B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49C-12FD-478C-B8DD-A4502A5E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5AD-FCA9-4E90-82EC-32937E22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6BA-BF3A-422B-B6CD-62E66A48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61E-D9C3-42DB-B18B-587F4D41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ADF-C94B-47B8-8AA6-00C73AF1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8A5A-413C-4E00-AE5E-D76A9905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D488-074E-47C5-B033-D442CBFA7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n 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920" y="6093000"/>
            <a:ext cx="380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 David Shortis 9P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Lin 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 Onus (William McLintock Onus) was born on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cember 1948. He passed away on October 24, 199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04000" y="333360"/>
            <a:ext cx="1944720" cy="1057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950840" cy="1127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211640" y="2637000"/>
            <a:ext cx="3470400" cy="3886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314172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 Onus was the only child of a Scottish mother and an Aboriginal fa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as two sons named Kenneth, Tiriki and a daughter named Birral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3716280"/>
            <a:ext cx="1447920" cy="1905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9280" y="5661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 Father Bill O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3716280"/>
            <a:ext cx="3024360" cy="1898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32000" y="566100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5661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 Son Tir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More About Lin 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in Onus was a self taught artist who began as a motor mechanic before making artifacts for his fathers business called Aboriginal Enterprises in Belgrave V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4462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Award Winning Pa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His Painting Barmah Forest won Canberra's National Heritage Award in 199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4294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ointment to the Australian Council as Chairman of the Artists Management Association in 199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warded with an Order of Australia for his contribution as an Artist and Ambassad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Lin Onus"/>
          <p:cNvPicPr/>
          <p:nvPr/>
        </p:nvPicPr>
        <p:blipFill>
          <a:blip r:embed="rId1"/>
          <a:stretch/>
        </p:blipFill>
        <p:spPr>
          <a:xfrm>
            <a:off x="3419640" y="4581360"/>
            <a:ext cx="173988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me of his many           Pain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04000" y="83664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971880"/>
            <a:ext cx="3611520" cy="2886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189000"/>
            <a:ext cx="3313080" cy="3405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867280" y="3933720"/>
            <a:ext cx="3097440" cy="2752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924360" y="4149720"/>
            <a:ext cx="1722240" cy="2290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348000" y="1557360"/>
            <a:ext cx="34146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9:50:18Z</dcterms:created>
  <dc:creator>Davo</dc:creator>
  <dc:description/>
  <dc:language>en-US</dc:language>
  <cp:lastModifiedBy>Davo</cp:lastModifiedBy>
  <dcterms:modified xsi:type="dcterms:W3CDTF">2008-07-29T11:08:49Z</dcterms:modified>
  <cp:revision>3</cp:revision>
  <dc:subject/>
  <dc:title>Lin Onus</dc:title>
</cp:coreProperties>
</file>